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91DA-372F-4A07-9BDA-6A3374665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8A62-F390-43F3-B036-8D721EC9F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1336-2589-436F-81FA-2A9E0352B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C7BB-731B-4B1F-9648-8938F51F8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5B10D8-4456-4A5C-BE33-10E3DD5D8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6551E1-5331-4B0E-A7F7-2F637848E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9663AE-1D0A-4C11-90CA-AAE67233D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BFC3F7-AC9F-484E-BF1C-2A0DF3BAA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A4C9B7-8FF7-4143-9034-A541866D2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DCFD14-FCF9-4DAC-85CC-47F7D329A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D48D40-A812-4678-8CCB-5B51E52E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94CD-1A1C-4AF8-BEF5-B7771B069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9F5371-D73E-45DB-A6E8-E2DF9751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7169AC-C1CC-4EFB-96AF-7DC150C3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416BF1-20AA-42DA-9068-E8EE2A756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B1C629-D13E-4DE7-BCA3-53AEB523F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4A58C8-CB94-4B93-8775-0AADFC358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64E3-3C3B-4AD6-8A63-F0AF14BBC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2324-D16C-4C1E-9372-8F5F4B2F7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087B-0920-48A0-BE4E-0490787D3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7F60-47FA-4C5B-BB43-022B08359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660E-35DE-437A-BE87-A83CE80C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23C4-DE97-494A-9F2D-BDCB4164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B6F6-FAA4-46A2-B9FF-C37889C6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675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fab"/>
              </a:gs>
              <a:gs pos="100000">
                <a:srgbClr val="66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9b5b8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eabae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BA573-C018-4D07-8498-0F562D92C4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675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fab"/>
              </a:gs>
              <a:gs pos="100000">
                <a:srgbClr val="66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9b5b8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eabae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87AE5-D11E-49DC-80C1-21C3D4CDCFE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edff"/>
                </a:solidFill>
                <a:latin typeface="Arial"/>
              </a:rPr>
              <a:t>The Persian Gulf States</a:t>
            </a: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uwai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hr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ata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ted Arab Emir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rj Dub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970440" y="0"/>
            <a:ext cx="5173560" cy="68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The Island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62120" y="1390680"/>
            <a:ext cx="729432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The Island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572320" cy="55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Hydropoli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619520" y="1562040"/>
            <a:ext cx="4524480" cy="52959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52280" y="1143000"/>
            <a:ext cx="603252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Notes</a:t>
            </a: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at deserts, Offshore O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ono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 care, 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eign Work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28800" y="35812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$$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Welcome to Dubai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714680" y="1447920"/>
            <a:ext cx="5715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Al Burj Hotel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006720" cy="3654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3483000" cy="27687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3657600" y="1143000"/>
            <a:ext cx="440532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The Sultan’s Palace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62120" y="1168560"/>
            <a:ext cx="761976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Sultan’s Palace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61976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Sultan’s Palace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5273640" cy="39117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400640" y="3244680"/>
            <a:ext cx="4743360" cy="36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Burj Dubai Tower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85840" y="1066680"/>
            <a:ext cx="857232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Burj Dubai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828800" y="2133720"/>
            <a:ext cx="553896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3T18:35:28Z</dcterms:created>
  <dc:creator>Joe Dirt</dc:creator>
  <dc:description/>
  <dc:language>en-US</dc:language>
  <cp:lastModifiedBy>Joe Dirt</cp:lastModifiedBy>
  <dcterms:modified xsi:type="dcterms:W3CDTF">2008-01-03T20:30:46Z</dcterms:modified>
  <cp:revision>4</cp:revision>
  <dc:subject/>
  <dc:title>The Persian Gulf States</dc:title>
</cp:coreProperties>
</file>